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227-1B46-4588-9A60-DAFC148E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1A0-618C-44DC-8750-C7C65FF1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436-9E90-4648-9218-C6AD30A9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624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48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624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48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3D6-74BB-4F39-902E-8AE67C92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F31-9258-43EA-B11A-F9887F11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2CA-6F7B-4549-B846-57B76D1C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85A-D7D9-486F-8520-4A1789CD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013-421C-45F0-8B71-8BA517D6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79752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84F-07D2-49B4-BEBE-ADA08888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2DB-F3F6-41E5-A072-5B134261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4F3-DF11-4326-A9AC-06290E03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2628-F900-4ABB-A7C0-5A5843FB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68600" y="9944280"/>
            <a:ext cx="241776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800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E723-F250-4010-9484-3E1A81B5DC47}" type="datetime">
              <a:rPr b="0" lang="en-US" sz="18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88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170B-CE1A-404C-931F-8A45663D32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22-07-01T05:49:53Z</dcterms:modified>
  <cp:revision>1</cp:revision>
  <dc:subject/>
  <dc:title>Presentation PowerPoint</dc:title>
</cp:coreProperties>
</file>